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F6D-422B-45DD-B9B7-033F2F84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403-E784-447A-9DD1-37F2AF10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8B9-90BF-4FCD-99D5-E5D94AF3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737-F045-4D01-9A2B-4268807A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0A77-ADE4-44BE-A30C-D24F0798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CB4C-0693-4581-BA50-8B847E38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1B2DB-C491-43F8-8022-F2276FF1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E5E0-49A1-4C42-8CBB-955F8875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6B69-FA9B-4B8F-87A6-6CACE17F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5BA9-74B5-4577-AA33-DAA88DD20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5455-E316-47D1-AAE5-0D78EE96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D62-D30C-4FA3-8585-858A0460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EF114-BB39-4257-9A55-32936761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E477-7795-41DA-9AD7-F94FA4A6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AE03-9948-4715-892C-85B3CA89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E7EC-F531-494B-8F6F-F33FE74B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C76FC-2ADD-43E5-B905-9D840BF5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E978-9379-4582-B9BC-FDA83AD02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43C-038B-4B84-B6C0-CA1D0D2C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1EF-5286-4091-A242-D41EC29D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6D6-7D5A-45CD-AA08-BFD43197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C82-8209-46A7-9CAC-09D05104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BFF1-A1F3-431A-82FB-44AF141F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1A2-BA21-41CB-A73C-39FE8C59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863B-EEFA-4D95-8A70-ECEF2CF21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A36-B7F1-4DFB-A0A5-14E6624C6C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Tahoma"/>
              </a:rPr>
              <a:t>Biomimicry:</a:t>
            </a:r>
            <a:br>
              <a:rPr sz="5400"/>
            </a:br>
            <a:r>
              <a:rPr b="1" lang="en-US" sz="4000" spc="-1" strike="noStrike">
                <a:solidFill>
                  <a:srgbClr val="ffffb7"/>
                </a:solidFill>
                <a:latin typeface="Tahoma"/>
              </a:rPr>
              <a:t>Integration Not Degradatio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7619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b7"/>
                </a:solidFill>
                <a:latin typeface="Tahoma"/>
              </a:rPr>
              <a:t>Presented By: Sara Wing, Jenny Lee, Lea Malewitz, Tommy C., Hannah N., Kate H., Ilya A., Brandon I., Nick B., Ari R</a:t>
            </a:r>
            <a:r>
              <a:rPr b="0" lang="en-US" sz="3200" spc="-1" strike="noStrike">
                <a:solidFill>
                  <a:srgbClr val="ffffb7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Tahoma"/>
              </a:rPr>
              <a:t>"Our greatest responsibility is to be good ancestors." 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ffb7"/>
                </a:solidFill>
                <a:latin typeface="Tahoma"/>
              </a:rPr>
              <a:t>	</a:t>
            </a:r>
            <a:r>
              <a:rPr b="1" i="1" lang="en-US" sz="2800" spc="-1" strike="noStrike">
                <a:solidFill>
                  <a:srgbClr val="ffffb7"/>
                </a:solidFill>
                <a:latin typeface="Tahoma"/>
              </a:rPr>
              <a:t>- Jonas Salk - inventor of the polio vaccine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5181480" cy="6080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 rot="1104000">
            <a:off x="6019200" y="137160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ccff"/>
                </a:solidFill>
                <a:latin typeface="Tahoma"/>
              </a:rPr>
              <a:t>Janine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6000" spc="-1" strike="noStrike">
                <a:solidFill>
                  <a:srgbClr val="99ccff"/>
                </a:solidFill>
                <a:latin typeface="Tahoma"/>
              </a:rPr>
              <a:t>Benyu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63244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www.naturaledgeproject.n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143000" y="1030320"/>
            <a:ext cx="6934320" cy="4836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1066680" y="5867280"/>
            <a:ext cx="49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www.treehugger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71600" y="882720"/>
            <a:ext cx="6477120" cy="5137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295280" y="60199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www.johnniemoore.co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" y="1143000"/>
            <a:ext cx="3586320" cy="4781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62360" y="1143000"/>
            <a:ext cx="387216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609480" y="6095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http://web.mit.edu/newsoffice/2008/adhesive-0218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90720" y="817560"/>
            <a:ext cx="7238880" cy="5049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914400" y="60199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http://money.cnn.com/galleries/2007/autos/0702/gallery.future_safety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5639040" cy="5638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1676520" y="609588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b7"/>
                </a:solidFill>
                <a:latin typeface="Tahoma"/>
              </a:rPr>
              <a:t>By: Text editing of Jenny , Lea, and Sa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b7"/>
                </a:solidFill>
                <a:latin typeface="Tahoma"/>
                <a:ea typeface="Tahmo"/>
              </a:rPr>
              <a:t>Acciording to the Nine Principles of Nature for biomimicry applications, </a:t>
            </a:r>
            <a:r>
              <a:rPr b="0" i="1" lang="en-US" sz="3000" spc="-1" strike="noStrike">
                <a:solidFill>
                  <a:srgbClr val="ffffb7"/>
                </a:solidFill>
                <a:latin typeface="Tahoma"/>
                <a:ea typeface="Tahmo"/>
              </a:rPr>
              <a:t>Nature…</a:t>
            </a:r>
            <a:br>
              <a:rPr sz="2200"/>
            </a:br>
            <a:endParaRPr b="1" lang="en-US" sz="3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65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1. Runs on sunlight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2. Uses only the energy it needs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3. Fits form to function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4. Recycles everything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5. Rewards cooperation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6. Banks on diversity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7. Demands local expertise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8. Curbs excesses from within</a:t>
            </a:r>
            <a:br>
              <a:rPr sz="2400"/>
            </a:br>
            <a:r>
              <a:rPr b="1" lang="en-US" sz="2400" spc="-1" strike="noStrike">
                <a:solidFill>
                  <a:srgbClr val="ffffb7"/>
                </a:solidFill>
                <a:latin typeface="Tahoma"/>
              </a:rPr>
              <a:t>9. Taps the power of lim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1:25:11Z</dcterms:created>
  <dc:creator>Anonymous</dc:creator>
  <dc:description/>
  <dc:language>en-US</dc:language>
  <cp:lastModifiedBy>Anonymous</cp:lastModifiedBy>
  <dcterms:modified xsi:type="dcterms:W3CDTF">2008-03-10T02:06:39Z</dcterms:modified>
  <cp:revision>4</cp:revision>
  <dc:subject/>
  <dc:title>Biomimicry: Integration Not Degradation</dc:title>
</cp:coreProperties>
</file>